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56C9-33BD-4C9D-AB95-132AD931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190C-518C-4B72-B5CA-1CEB92D9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A4C-4BB7-4ABE-A053-8C79DDAC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22AD-1A7C-45B2-92D3-CC2E63D0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F956B-CDDC-4C28-9F2D-CFC3D983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C56B8-5F08-40EE-9304-6AF24AFE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24E6D-9081-4FCC-BC26-E96FBA64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F8DF7-C1B4-423E-A028-F3EA583F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BCABD-7741-466F-91F2-4E6FE4B2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C4C92-45B8-48AE-BC95-D24BD567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ABAAA-CC2C-42D2-B840-9695A7CA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8F2-4339-4559-8D77-EF7597A5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769B8-4720-41F8-A6A6-CF53000A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15B9E-04B0-4703-8B06-503B4ECD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ECE60-C178-4EE2-B460-CFF14D4F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7BC9E-99BB-49E6-BDAC-2F3EA4AD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2AABE-5A0F-4D93-A37B-55FAC02B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3C2A-5249-4FB0-8E06-8DD94509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688C-7E2E-41B6-B2CB-FD20AF54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D217-E019-42C7-8020-A9528E6E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AE20-54C2-4FD5-BB4C-E5BF4A61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7829-5ACE-48F1-BD86-A0B65525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ABE0-7D10-4230-8D4C-5594A2B5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CBAE-9521-4E7D-BDB5-C6ED95C9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A668-E0A5-4E5B-8003-A8224F4A8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344D-FAC6-4E14-BDCA-9B29923A70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24000" y="1699920"/>
            <a:ext cx="85680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Комнатные</a:t>
            </a:r>
            <a:br>
              <a:rPr sz="9600"/>
            </a:b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цветы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7" descr="бегония3"/>
          <p:cNvPicPr/>
          <p:nvPr/>
        </p:nvPicPr>
        <p:blipFill>
          <a:blip r:embed="rId2"/>
          <a:stretch/>
        </p:blipFill>
        <p:spPr>
          <a:xfrm>
            <a:off x="4716360" y="2060640"/>
            <a:ext cx="42624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Глоксини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глоксиния1"/>
          <p:cNvPicPr/>
          <p:nvPr/>
        </p:nvPicPr>
        <p:blipFill>
          <a:blip r:embed="rId2"/>
          <a:stretch/>
        </p:blipFill>
        <p:spPr>
          <a:xfrm>
            <a:off x="755640" y="981000"/>
            <a:ext cx="7620120" cy="57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Глоксини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глоксиния3"/>
          <p:cNvPicPr/>
          <p:nvPr/>
        </p:nvPicPr>
        <p:blipFill>
          <a:blip r:embed="rId2"/>
          <a:stretch/>
        </p:blipFill>
        <p:spPr>
          <a:xfrm>
            <a:off x="826920" y="1052640"/>
            <a:ext cx="74883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160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Фиалк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Фиалка11"/>
          <p:cNvPicPr/>
          <p:nvPr/>
        </p:nvPicPr>
        <p:blipFill>
          <a:blip r:embed="rId2"/>
          <a:stretch/>
        </p:blipFill>
        <p:spPr>
          <a:xfrm>
            <a:off x="684360" y="863640"/>
            <a:ext cx="799308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Фиалк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Фиалка7"/>
          <p:cNvPicPr/>
          <p:nvPr/>
        </p:nvPicPr>
        <p:blipFill>
          <a:blip r:embed="rId2"/>
          <a:stretch/>
        </p:blipFill>
        <p:spPr>
          <a:xfrm>
            <a:off x="684360" y="1052640"/>
            <a:ext cx="756108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Фиалк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Фиалка3"/>
          <p:cNvPicPr/>
          <p:nvPr/>
        </p:nvPicPr>
        <p:blipFill>
          <a:blip r:embed="rId2"/>
          <a:stretch/>
        </p:blipFill>
        <p:spPr>
          <a:xfrm>
            <a:off x="108000" y="3284640"/>
            <a:ext cx="4241880" cy="3471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Фиалка6"/>
          <p:cNvPicPr/>
          <p:nvPr/>
        </p:nvPicPr>
        <p:blipFill>
          <a:blip r:embed="rId3"/>
          <a:stretch/>
        </p:blipFill>
        <p:spPr>
          <a:xfrm>
            <a:off x="4516560" y="1628640"/>
            <a:ext cx="4519440" cy="4870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Фиалка4"/>
          <p:cNvPicPr/>
          <p:nvPr/>
        </p:nvPicPr>
        <p:blipFill>
          <a:blip r:embed="rId4"/>
          <a:stretch/>
        </p:blipFill>
        <p:spPr>
          <a:xfrm>
            <a:off x="179280" y="115920"/>
            <a:ext cx="417672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1:10:19Z</dcterms:created>
  <dc:creator>Sm</dc:creator>
  <dc:description/>
  <dc:language>en-US</dc:language>
  <cp:lastModifiedBy>Борис</cp:lastModifiedBy>
  <dcterms:modified xsi:type="dcterms:W3CDTF">2013-12-19T14:00:24Z</dcterms:modified>
  <cp:revision>45</cp:revision>
  <dc:subject/>
  <dc:title>Комнатны цветы</dc:title>
</cp:coreProperties>
</file>